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081-A1E0-4522-AA1F-EBA5E1C8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7B4-BC3C-4EEF-80DD-3ACEB3F6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A8B-7EF3-4D2E-B2F7-1C31FA63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D92-2F8D-48FC-BEA4-DDF23C75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3BA-365F-4B5D-8580-C7E75430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9A0-A71E-4E39-ACE1-EDA9D71B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CF5-7C0B-4A2B-A226-F9162F31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C23-8A99-48F7-99E5-3895E4AC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C3C-3963-40D0-BC7B-09E27C91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6DF-9356-4042-8FB7-DB41469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A1C-E47A-480C-9BC4-41BEA72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243-8380-4C71-A152-B2DFECD7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EA94-6C04-4F42-B12E-D7E66E3430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2209680"/>
            <a:ext cx="42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lculat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  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81680" cy="16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81680" cy="144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3657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467480" cy="138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760" y="2057400"/>
            <a:ext cx="712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etermi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(P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335268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962520"/>
            <a:ext cx="152424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4952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0920" y="32076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8:36Z</dcterms:modified>
  <cp:revision>183</cp:revision>
  <dc:subject/>
  <dc:title>Slide 1</dc:title>
</cp:coreProperties>
</file>